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E23-EEA5-4A0B-B0CF-56A7D495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637-1411-440F-992C-AC115448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CBD-417D-4256-AA2C-0BA04D60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3C6-6D34-47D9-A06E-4FB7165D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FE85-121B-45D7-A847-93E1D8B0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D750-1696-42CA-9436-685005C3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A13A-D14E-4369-AA2A-07D9459A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4012-13E1-4736-A7F3-14B37B09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8AF8-C45C-4FB8-A83B-D97531C3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12FA-53A1-4710-A9FA-F3A0029E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862D-8EDC-4170-9681-7AC34AA8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7B2-CB84-46FB-BD28-8861F3B7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EFC7-A942-4595-B4B7-0953E4C7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312E-A28F-4E5D-96E8-32CAAFDA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04AF-EC4D-45E7-B815-E6E4DCB6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B844-A3FD-4738-98BC-C47E4400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9259-BB85-4D88-A2F1-85E23AEE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B43-14BA-485D-A12C-E2C6F16E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ED6-7D29-4231-B827-68ABA5AA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535-D81A-4BCF-B1AD-1C6C09D7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DAC-E676-435B-9158-DABA9A3C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61E-940F-403B-800A-5FA13974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2C7-FD86-4D3E-9093-115AC6BE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B20-3410-4B8B-AEE5-83AA42AD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Picture 4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1648-0861-4B4E-BB36-50CCCCF079D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A456-08C4-4FDC-8AA5-C218462CF09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Picture 5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B5D0-BA22-47C1-8BD0-AF3E2362C69E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A35A-A153-471A-B060-65C13A9C170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Contexte: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Votre mère va préparer une salade de fruits. Elle vous demande d’écrire une liste des provisions pour le supermarché.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Tâche: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Écrire la liste en vous servant des im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4" descr="MCj04238700000[1]"/>
          <p:cNvPicPr/>
          <p:nvPr/>
        </p:nvPicPr>
        <p:blipFill>
          <a:blip r:embed="rId1"/>
          <a:stretch/>
        </p:blipFill>
        <p:spPr>
          <a:xfrm>
            <a:off x="609480" y="3200400"/>
            <a:ext cx="1206720" cy="163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" descr=""/>
          <p:cNvPicPr/>
          <p:nvPr/>
        </p:nvPicPr>
        <p:blipFill>
          <a:blip r:embed="rId2"/>
          <a:stretch/>
        </p:blipFill>
        <p:spPr>
          <a:xfrm>
            <a:off x="3809880" y="5410080"/>
            <a:ext cx="241956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MPPH02763J0000[1]"/>
          <p:cNvPicPr/>
          <p:nvPr/>
        </p:nvPicPr>
        <p:blipFill>
          <a:blip r:embed="rId3"/>
          <a:stretch/>
        </p:blipFill>
        <p:spPr>
          <a:xfrm>
            <a:off x="838080" y="4952880"/>
            <a:ext cx="2068560" cy="160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MPj04068720000[1]"/>
          <p:cNvPicPr/>
          <p:nvPr/>
        </p:nvPicPr>
        <p:blipFill>
          <a:blip r:embed="rId4"/>
          <a:stretch/>
        </p:blipFill>
        <p:spPr>
          <a:xfrm>
            <a:off x="6781680" y="4114800"/>
            <a:ext cx="1371600" cy="2055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Pj04071290000[1]"/>
          <p:cNvPicPr/>
          <p:nvPr/>
        </p:nvPicPr>
        <p:blipFill>
          <a:blip r:embed="rId5"/>
          <a:stretch/>
        </p:blipFill>
        <p:spPr>
          <a:xfrm>
            <a:off x="3122640" y="1905120"/>
            <a:ext cx="228744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"/>
          <p:cNvPicPr/>
          <p:nvPr/>
        </p:nvPicPr>
        <p:blipFill>
          <a:blip r:embed="rId6"/>
          <a:stretch/>
        </p:blipFill>
        <p:spPr>
          <a:xfrm>
            <a:off x="3124080" y="3657600"/>
            <a:ext cx="1933560" cy="1447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7"/>
          <a:stretch/>
        </p:blipFill>
        <p:spPr>
          <a:xfrm>
            <a:off x="6070680" y="2209680"/>
            <a:ext cx="2616120" cy="1747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8"/>
          <a:stretch/>
        </p:blipFill>
        <p:spPr>
          <a:xfrm>
            <a:off x="577800" y="1752480"/>
            <a:ext cx="1631880" cy="12193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2"/>
          <p:cNvSpPr/>
          <p:nvPr/>
        </p:nvSpPr>
        <p:spPr>
          <a:xfrm>
            <a:off x="195120" y="2144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22860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609480" y="54975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2743200" y="24494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2743200" y="41259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342900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18"/>
          <p:cNvSpPr/>
          <p:nvPr/>
        </p:nvSpPr>
        <p:spPr>
          <a:xfrm>
            <a:off x="5943600" y="2895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19"/>
          <p:cNvSpPr/>
          <p:nvPr/>
        </p:nvSpPr>
        <p:spPr>
          <a:xfrm>
            <a:off x="6324480" y="4952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609480" y="267804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s frai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21"/>
          <p:cNvSpPr/>
          <p:nvPr/>
        </p:nvSpPr>
        <p:spPr>
          <a:xfrm>
            <a:off x="457200" y="44956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s raisi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22"/>
          <p:cNvSpPr/>
          <p:nvPr/>
        </p:nvSpPr>
        <p:spPr>
          <a:xfrm>
            <a:off x="990720" y="641196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s bana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3505320" y="31240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s ora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3352680" y="48880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s pêch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Box 25"/>
          <p:cNvSpPr/>
          <p:nvPr/>
        </p:nvSpPr>
        <p:spPr>
          <a:xfrm>
            <a:off x="4038480" y="640080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s pom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Box 26"/>
          <p:cNvSpPr/>
          <p:nvPr/>
        </p:nvSpPr>
        <p:spPr>
          <a:xfrm>
            <a:off x="6553080" y="35053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s poi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Box 27"/>
          <p:cNvSpPr/>
          <p:nvPr/>
        </p:nvSpPr>
        <p:spPr>
          <a:xfrm>
            <a:off x="6629400" y="60199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s anan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cp:lastPrinted>2013-11-26T11:15:57Z</cp:lastPrinted>
  <dcterms:modified xsi:type="dcterms:W3CDTF">2013-12-03T18:14:31Z</dcterms:modified>
  <cp:revision>101</cp:revision>
  <dc:subject/>
  <dc:title>Allez, viens! – Level 2</dc:title>
</cp:coreProperties>
</file>